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7D8F-C87C-4965-8210-3733E7BC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D974-C60C-4D9A-9591-857BA8D7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3894-9D35-4272-955D-1CADF2C5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E0D-F7B3-4947-A937-06B3DFD0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EDD6-6CC2-4903-BB0F-5C136D5C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BD74-AF96-4CBA-B01E-C7B75286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ADA7-0076-4CE2-81FD-EA1F15C9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B450-FB2F-4CE0-8748-CA561EBB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9FEC-A98A-4BD4-B4DB-EFA8D44C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409C-7CEE-48CF-9B6F-2272F90F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DECB-10A8-42DB-B973-1C61AD11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CF3A-43D0-441F-BC8C-E04E9079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0F21-CC1F-4C86-9390-C50A9FE8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CEC4-82E0-425D-A039-E21609E5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3661-1860-4C86-B317-DDB1F18A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F0F2-763A-48F3-B2CB-FA0D4B13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96FC-3012-4820-BEF0-7A6575B8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E5A-3E38-4B01-A365-62AE3664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DC87-A92A-47AE-AA7B-CEF06D68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1C9-7932-43A7-BBF4-CCF9A898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0B3-A97B-40A1-B3D5-D92FF4C8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95C9-79C1-4E9E-86BC-A16658E2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1ACC-3C65-49E6-97D2-01974D4D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CD1E-5E16-4C3E-BF62-2E504131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513E-834B-4ED2-A958-CE12182CAE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FEE8-37E3-4988-A2B1-DBD2E59944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Bea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n two waves have similar frequencies they will create an interference pattern called a b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://www.mta.ca/faculty/science/physics/suren/Beats/Beats.htm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Bea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rom the interference pattern you can learn different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Beat Frequency: The long and regular change of the interference patter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Wave Frequency: The number of wavelengths (one peak and one trough) of the resultant wave in one second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Beat Frequenc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or this wave…2 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11280" y="2852640"/>
            <a:ext cx="7776720" cy="2035440"/>
            <a:chOff x="611280" y="2852640"/>
            <a:chExt cx="7776720" cy="2035440"/>
          </a:xfrm>
        </p:grpSpPr>
        <p:grpSp>
          <p:nvGrpSpPr>
            <p:cNvPr id="104" name=""/>
            <p:cNvGrpSpPr/>
            <p:nvPr/>
          </p:nvGrpSpPr>
          <p:grpSpPr>
            <a:xfrm>
              <a:off x="611280" y="2852640"/>
              <a:ext cx="7776720" cy="2035440"/>
              <a:chOff x="611280" y="2852640"/>
              <a:chExt cx="7776720" cy="203544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611280" y="2852640"/>
                <a:ext cx="7631640" cy="2035440"/>
                <a:chOff x="611280" y="2852640"/>
                <a:chExt cx="7631640" cy="2035440"/>
              </a:xfrm>
            </p:grpSpPr>
            <p:sp>
              <p:nvSpPr>
                <p:cNvPr id="106" name=""/>
                <p:cNvSpPr/>
                <p:nvPr/>
              </p:nvSpPr>
              <p:spPr>
                <a:xfrm flipV="1">
                  <a:off x="829080" y="2998080"/>
                  <a:ext cx="0" cy="189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683640" y="3942720"/>
                  <a:ext cx="712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370640" y="4015440"/>
                  <a:ext cx="872280" cy="2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Time (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829080" y="2852640"/>
                  <a:ext cx="1598760" cy="2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isplacement (m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829080" y="3143520"/>
                  <a:ext cx="639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29080" y="4742640"/>
                  <a:ext cx="639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895040" y="3870000"/>
                  <a:ext cx="0" cy="14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961000" y="3870000"/>
                  <a:ext cx="0" cy="14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027320" y="3870000"/>
                  <a:ext cx="0" cy="14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093280" y="3870000"/>
                  <a:ext cx="0" cy="14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159240" y="3870000"/>
                  <a:ext cx="0" cy="14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225560" y="3870000"/>
                  <a:ext cx="0" cy="14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829080" y="3870000"/>
                  <a:ext cx="0" cy="14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11280" y="3870000"/>
                  <a:ext cx="290520" cy="2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689120" y="3979440"/>
                  <a:ext cx="5572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743200" y="3979440"/>
                  <a:ext cx="55692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809160" y="3979440"/>
                  <a:ext cx="55692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899600" y="3979440"/>
                  <a:ext cx="55692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.8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965560" y="3979440"/>
                  <a:ext cx="5572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31520" y="3979440"/>
                  <a:ext cx="5572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6643800" y="2998080"/>
                <a:ext cx="1744200" cy="290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ximum amplitu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836640" y="3156120"/>
              <a:ext cx="6534000" cy="1574280"/>
            </a:xfrm>
            <a:custGeom>
              <a:avLst/>
              <a:gdLst/>
              <a:ahLst/>
              <a:rect l="l" t="t" r="r" b="b"/>
              <a:pathLst>
                <a:path w="8091" h="1949">
                  <a:moveTo>
                    <a:pt x="0" y="966"/>
                  </a:moveTo>
                  <a:cubicBezTo>
                    <a:pt x="280" y="806"/>
                    <a:pt x="1133" y="6"/>
                    <a:pt x="1680" y="6"/>
                  </a:cubicBezTo>
                  <a:cubicBezTo>
                    <a:pt x="2227" y="6"/>
                    <a:pt x="2737" y="643"/>
                    <a:pt x="3280" y="966"/>
                  </a:cubicBezTo>
                  <a:cubicBezTo>
                    <a:pt x="3823" y="1289"/>
                    <a:pt x="4393" y="1943"/>
                    <a:pt x="4940" y="1946"/>
                  </a:cubicBezTo>
                  <a:cubicBezTo>
                    <a:pt x="5487" y="1949"/>
                    <a:pt x="6035" y="1310"/>
                    <a:pt x="6560" y="986"/>
                  </a:cubicBezTo>
                  <a:cubicBezTo>
                    <a:pt x="7085" y="662"/>
                    <a:pt x="7772" y="205"/>
                    <a:pt x="809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36640" y="3147840"/>
              <a:ext cx="6534000" cy="1574280"/>
            </a:xfrm>
            <a:custGeom>
              <a:avLst/>
              <a:gdLst/>
              <a:ahLst/>
              <a:rect l="l" t="t" r="r" b="b"/>
              <a:pathLst>
                <a:path w="8091" h="1949">
                  <a:moveTo>
                    <a:pt x="0" y="966"/>
                  </a:moveTo>
                  <a:cubicBezTo>
                    <a:pt x="280" y="806"/>
                    <a:pt x="1133" y="6"/>
                    <a:pt x="1680" y="6"/>
                  </a:cubicBezTo>
                  <a:cubicBezTo>
                    <a:pt x="2227" y="6"/>
                    <a:pt x="2737" y="643"/>
                    <a:pt x="3280" y="966"/>
                  </a:cubicBezTo>
                  <a:cubicBezTo>
                    <a:pt x="3823" y="1289"/>
                    <a:pt x="4393" y="1943"/>
                    <a:pt x="4940" y="1946"/>
                  </a:cubicBezTo>
                  <a:cubicBezTo>
                    <a:pt x="5487" y="1949"/>
                    <a:pt x="6035" y="1310"/>
                    <a:pt x="6560" y="986"/>
                  </a:cubicBezTo>
                  <a:cubicBezTo>
                    <a:pt x="7085" y="662"/>
                    <a:pt x="7772" y="205"/>
                    <a:pt x="809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0080" y="3069720"/>
              <a:ext cx="6492960" cy="1809360"/>
            </a:xfrm>
            <a:custGeom>
              <a:avLst/>
              <a:gdLst/>
              <a:ahLst/>
              <a:rect l="l" t="t" r="r" b="b"/>
              <a:pathLst>
                <a:path w="8040" h="2240">
                  <a:moveTo>
                    <a:pt x="0" y="1073"/>
                  </a:moveTo>
                  <a:cubicBezTo>
                    <a:pt x="50" y="1043"/>
                    <a:pt x="217" y="833"/>
                    <a:pt x="300" y="893"/>
                  </a:cubicBezTo>
                  <a:cubicBezTo>
                    <a:pt x="383" y="953"/>
                    <a:pt x="403" y="1503"/>
                    <a:pt x="500" y="1433"/>
                  </a:cubicBezTo>
                  <a:cubicBezTo>
                    <a:pt x="597" y="1363"/>
                    <a:pt x="783" y="406"/>
                    <a:pt x="880" y="473"/>
                  </a:cubicBezTo>
                  <a:cubicBezTo>
                    <a:pt x="977" y="540"/>
                    <a:pt x="1010" y="1730"/>
                    <a:pt x="1080" y="1833"/>
                  </a:cubicBezTo>
                  <a:cubicBezTo>
                    <a:pt x="1150" y="1936"/>
                    <a:pt x="1230" y="1373"/>
                    <a:pt x="1300" y="1093"/>
                  </a:cubicBezTo>
                  <a:cubicBezTo>
                    <a:pt x="1370" y="813"/>
                    <a:pt x="1427" y="0"/>
                    <a:pt x="1500" y="153"/>
                  </a:cubicBezTo>
                  <a:cubicBezTo>
                    <a:pt x="1573" y="306"/>
                    <a:pt x="1630" y="1993"/>
                    <a:pt x="1740" y="2013"/>
                  </a:cubicBezTo>
                  <a:cubicBezTo>
                    <a:pt x="1850" y="2033"/>
                    <a:pt x="2043" y="333"/>
                    <a:pt x="2160" y="273"/>
                  </a:cubicBezTo>
                  <a:cubicBezTo>
                    <a:pt x="2277" y="213"/>
                    <a:pt x="2360" y="1520"/>
                    <a:pt x="2440" y="1653"/>
                  </a:cubicBezTo>
                  <a:cubicBezTo>
                    <a:pt x="2520" y="1786"/>
                    <a:pt x="2563" y="1210"/>
                    <a:pt x="2640" y="1073"/>
                  </a:cubicBezTo>
                  <a:cubicBezTo>
                    <a:pt x="2717" y="936"/>
                    <a:pt x="2820" y="820"/>
                    <a:pt x="2900" y="833"/>
                  </a:cubicBezTo>
                  <a:cubicBezTo>
                    <a:pt x="2980" y="846"/>
                    <a:pt x="3053" y="1110"/>
                    <a:pt x="3120" y="1153"/>
                  </a:cubicBezTo>
                  <a:cubicBezTo>
                    <a:pt x="3187" y="1196"/>
                    <a:pt x="3227" y="1133"/>
                    <a:pt x="3300" y="1093"/>
                  </a:cubicBezTo>
                  <a:cubicBezTo>
                    <a:pt x="3373" y="1053"/>
                    <a:pt x="3470" y="846"/>
                    <a:pt x="3560" y="913"/>
                  </a:cubicBezTo>
                  <a:cubicBezTo>
                    <a:pt x="3650" y="980"/>
                    <a:pt x="3747" y="1566"/>
                    <a:pt x="3840" y="1493"/>
                  </a:cubicBezTo>
                  <a:cubicBezTo>
                    <a:pt x="3933" y="1420"/>
                    <a:pt x="4023" y="413"/>
                    <a:pt x="4120" y="473"/>
                  </a:cubicBezTo>
                  <a:cubicBezTo>
                    <a:pt x="4217" y="533"/>
                    <a:pt x="4300" y="1916"/>
                    <a:pt x="4420" y="1853"/>
                  </a:cubicBezTo>
                  <a:cubicBezTo>
                    <a:pt x="4540" y="1790"/>
                    <a:pt x="4740" y="56"/>
                    <a:pt x="4840" y="93"/>
                  </a:cubicBezTo>
                  <a:cubicBezTo>
                    <a:pt x="4940" y="130"/>
                    <a:pt x="4947" y="1906"/>
                    <a:pt x="5020" y="2073"/>
                  </a:cubicBezTo>
                  <a:cubicBezTo>
                    <a:pt x="5093" y="2240"/>
                    <a:pt x="5200" y="1393"/>
                    <a:pt x="5280" y="1093"/>
                  </a:cubicBezTo>
                  <a:cubicBezTo>
                    <a:pt x="5360" y="793"/>
                    <a:pt x="5418" y="167"/>
                    <a:pt x="5500" y="273"/>
                  </a:cubicBezTo>
                  <a:cubicBezTo>
                    <a:pt x="5582" y="379"/>
                    <a:pt x="5684" y="1664"/>
                    <a:pt x="5771" y="1727"/>
                  </a:cubicBezTo>
                  <a:cubicBezTo>
                    <a:pt x="5858" y="1790"/>
                    <a:pt x="5925" y="735"/>
                    <a:pt x="6020" y="653"/>
                  </a:cubicBezTo>
                  <a:cubicBezTo>
                    <a:pt x="6115" y="571"/>
                    <a:pt x="6232" y="1174"/>
                    <a:pt x="6340" y="1233"/>
                  </a:cubicBezTo>
                  <a:cubicBezTo>
                    <a:pt x="6448" y="1292"/>
                    <a:pt x="6584" y="1034"/>
                    <a:pt x="6671" y="1007"/>
                  </a:cubicBezTo>
                  <a:cubicBezTo>
                    <a:pt x="6758" y="980"/>
                    <a:pt x="6800" y="1013"/>
                    <a:pt x="6860" y="1073"/>
                  </a:cubicBezTo>
                  <a:cubicBezTo>
                    <a:pt x="6920" y="1133"/>
                    <a:pt x="6968" y="1427"/>
                    <a:pt x="7031" y="1367"/>
                  </a:cubicBezTo>
                  <a:cubicBezTo>
                    <a:pt x="7094" y="1307"/>
                    <a:pt x="7139" y="652"/>
                    <a:pt x="7240" y="713"/>
                  </a:cubicBezTo>
                  <a:cubicBezTo>
                    <a:pt x="7341" y="774"/>
                    <a:pt x="7527" y="1670"/>
                    <a:pt x="7640" y="1733"/>
                  </a:cubicBezTo>
                  <a:cubicBezTo>
                    <a:pt x="7753" y="1796"/>
                    <a:pt x="7853" y="1283"/>
                    <a:pt x="7920" y="1093"/>
                  </a:cubicBezTo>
                  <a:cubicBezTo>
                    <a:pt x="7987" y="903"/>
                    <a:pt x="8015" y="697"/>
                    <a:pt x="8040" y="59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Wave Frequenc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or this wave… 10 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24000" y="2781360"/>
            <a:ext cx="8208360" cy="2147760"/>
            <a:chOff x="324000" y="2781360"/>
            <a:chExt cx="8208360" cy="2147760"/>
          </a:xfrm>
        </p:grpSpPr>
        <p:grpSp>
          <p:nvGrpSpPr>
            <p:cNvPr id="133" name=""/>
            <p:cNvGrpSpPr/>
            <p:nvPr/>
          </p:nvGrpSpPr>
          <p:grpSpPr>
            <a:xfrm>
              <a:off x="324000" y="2781360"/>
              <a:ext cx="8208360" cy="2147760"/>
              <a:chOff x="324000" y="2781360"/>
              <a:chExt cx="8208360" cy="21477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24000" y="2781360"/>
                <a:ext cx="8055000" cy="2147760"/>
                <a:chOff x="324000" y="2781360"/>
                <a:chExt cx="8055000" cy="2147760"/>
              </a:xfrm>
            </p:grpSpPr>
            <p:sp>
              <p:nvSpPr>
                <p:cNvPr id="135" name=""/>
                <p:cNvSpPr/>
                <p:nvPr/>
              </p:nvSpPr>
              <p:spPr>
                <a:xfrm flipV="1">
                  <a:off x="554040" y="2934720"/>
                  <a:ext cx="0" cy="199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00680" y="3931920"/>
                  <a:ext cx="751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458480" y="4008600"/>
                  <a:ext cx="92052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Time (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4040" y="2781360"/>
                  <a:ext cx="16876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isplacement (m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54040" y="3088080"/>
                  <a:ext cx="675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54040" y="4775760"/>
                  <a:ext cx="675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679040" y="3854880"/>
                  <a:ext cx="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804400" y="3854880"/>
                  <a:ext cx="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929760" y="3854880"/>
                  <a:ext cx="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54760" y="3854880"/>
                  <a:ext cx="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180120" y="3854880"/>
                  <a:ext cx="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305480" y="3854880"/>
                  <a:ext cx="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54040" y="3854880"/>
                  <a:ext cx="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24000" y="3854880"/>
                  <a:ext cx="30672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461960" y="3970080"/>
                  <a:ext cx="587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574360" y="3970080"/>
                  <a:ext cx="587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99720" y="3970080"/>
                  <a:ext cx="587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850280" y="3970080"/>
                  <a:ext cx="587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.8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75280" y="3970080"/>
                  <a:ext cx="587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100640" y="3970080"/>
                  <a:ext cx="587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6691320" y="2934720"/>
                <a:ext cx="1841040" cy="30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ximum amplitu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561600" y="3101760"/>
              <a:ext cx="6896880" cy="1661040"/>
            </a:xfrm>
            <a:custGeom>
              <a:avLst/>
              <a:gdLst/>
              <a:ahLst/>
              <a:rect l="l" t="t" r="r" b="b"/>
              <a:pathLst>
                <a:path w="8091" h="1949">
                  <a:moveTo>
                    <a:pt x="0" y="966"/>
                  </a:moveTo>
                  <a:cubicBezTo>
                    <a:pt x="280" y="806"/>
                    <a:pt x="1133" y="6"/>
                    <a:pt x="1680" y="6"/>
                  </a:cubicBezTo>
                  <a:cubicBezTo>
                    <a:pt x="2227" y="6"/>
                    <a:pt x="2737" y="643"/>
                    <a:pt x="3280" y="966"/>
                  </a:cubicBezTo>
                  <a:cubicBezTo>
                    <a:pt x="3823" y="1289"/>
                    <a:pt x="4393" y="1943"/>
                    <a:pt x="4940" y="1946"/>
                  </a:cubicBezTo>
                  <a:cubicBezTo>
                    <a:pt x="5487" y="1949"/>
                    <a:pt x="6035" y="1310"/>
                    <a:pt x="6560" y="986"/>
                  </a:cubicBezTo>
                  <a:cubicBezTo>
                    <a:pt x="7085" y="662"/>
                    <a:pt x="7772" y="205"/>
                    <a:pt x="809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61600" y="3093480"/>
              <a:ext cx="6896880" cy="1661040"/>
            </a:xfrm>
            <a:custGeom>
              <a:avLst/>
              <a:gdLst/>
              <a:ahLst/>
              <a:rect l="l" t="t" r="r" b="b"/>
              <a:pathLst>
                <a:path w="8091" h="1949">
                  <a:moveTo>
                    <a:pt x="0" y="966"/>
                  </a:moveTo>
                  <a:cubicBezTo>
                    <a:pt x="280" y="806"/>
                    <a:pt x="1133" y="6"/>
                    <a:pt x="1680" y="6"/>
                  </a:cubicBezTo>
                  <a:cubicBezTo>
                    <a:pt x="2227" y="6"/>
                    <a:pt x="2737" y="643"/>
                    <a:pt x="3280" y="966"/>
                  </a:cubicBezTo>
                  <a:cubicBezTo>
                    <a:pt x="3823" y="1289"/>
                    <a:pt x="4393" y="1943"/>
                    <a:pt x="4940" y="1946"/>
                  </a:cubicBezTo>
                  <a:cubicBezTo>
                    <a:pt x="5487" y="1949"/>
                    <a:pt x="6035" y="1310"/>
                    <a:pt x="6560" y="986"/>
                  </a:cubicBezTo>
                  <a:cubicBezTo>
                    <a:pt x="7085" y="662"/>
                    <a:pt x="7772" y="205"/>
                    <a:pt x="809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4680" y="3010320"/>
              <a:ext cx="6853320" cy="1909080"/>
            </a:xfrm>
            <a:custGeom>
              <a:avLst/>
              <a:gdLst/>
              <a:ahLst/>
              <a:rect l="l" t="t" r="r" b="b"/>
              <a:pathLst>
                <a:path w="8040" h="2240">
                  <a:moveTo>
                    <a:pt x="0" y="1073"/>
                  </a:moveTo>
                  <a:cubicBezTo>
                    <a:pt x="50" y="1043"/>
                    <a:pt x="217" y="833"/>
                    <a:pt x="300" y="893"/>
                  </a:cubicBezTo>
                  <a:cubicBezTo>
                    <a:pt x="383" y="953"/>
                    <a:pt x="403" y="1503"/>
                    <a:pt x="500" y="1433"/>
                  </a:cubicBezTo>
                  <a:cubicBezTo>
                    <a:pt x="597" y="1363"/>
                    <a:pt x="783" y="406"/>
                    <a:pt x="880" y="473"/>
                  </a:cubicBezTo>
                  <a:cubicBezTo>
                    <a:pt x="977" y="540"/>
                    <a:pt x="1010" y="1730"/>
                    <a:pt x="1080" y="1833"/>
                  </a:cubicBezTo>
                  <a:cubicBezTo>
                    <a:pt x="1150" y="1936"/>
                    <a:pt x="1230" y="1373"/>
                    <a:pt x="1300" y="1093"/>
                  </a:cubicBezTo>
                  <a:cubicBezTo>
                    <a:pt x="1370" y="813"/>
                    <a:pt x="1427" y="0"/>
                    <a:pt x="1500" y="153"/>
                  </a:cubicBezTo>
                  <a:cubicBezTo>
                    <a:pt x="1573" y="306"/>
                    <a:pt x="1630" y="1993"/>
                    <a:pt x="1740" y="2013"/>
                  </a:cubicBezTo>
                  <a:cubicBezTo>
                    <a:pt x="1850" y="2033"/>
                    <a:pt x="2043" y="333"/>
                    <a:pt x="2160" y="273"/>
                  </a:cubicBezTo>
                  <a:cubicBezTo>
                    <a:pt x="2277" y="213"/>
                    <a:pt x="2360" y="1520"/>
                    <a:pt x="2440" y="1653"/>
                  </a:cubicBezTo>
                  <a:cubicBezTo>
                    <a:pt x="2520" y="1786"/>
                    <a:pt x="2563" y="1210"/>
                    <a:pt x="2640" y="1073"/>
                  </a:cubicBezTo>
                  <a:cubicBezTo>
                    <a:pt x="2717" y="936"/>
                    <a:pt x="2820" y="820"/>
                    <a:pt x="2900" y="833"/>
                  </a:cubicBezTo>
                  <a:cubicBezTo>
                    <a:pt x="2980" y="846"/>
                    <a:pt x="3053" y="1110"/>
                    <a:pt x="3120" y="1153"/>
                  </a:cubicBezTo>
                  <a:cubicBezTo>
                    <a:pt x="3187" y="1196"/>
                    <a:pt x="3227" y="1133"/>
                    <a:pt x="3300" y="1093"/>
                  </a:cubicBezTo>
                  <a:cubicBezTo>
                    <a:pt x="3373" y="1053"/>
                    <a:pt x="3470" y="846"/>
                    <a:pt x="3560" y="913"/>
                  </a:cubicBezTo>
                  <a:cubicBezTo>
                    <a:pt x="3650" y="980"/>
                    <a:pt x="3747" y="1566"/>
                    <a:pt x="3840" y="1493"/>
                  </a:cubicBezTo>
                  <a:cubicBezTo>
                    <a:pt x="3933" y="1420"/>
                    <a:pt x="4023" y="413"/>
                    <a:pt x="4120" y="473"/>
                  </a:cubicBezTo>
                  <a:cubicBezTo>
                    <a:pt x="4217" y="533"/>
                    <a:pt x="4300" y="1916"/>
                    <a:pt x="4420" y="1853"/>
                  </a:cubicBezTo>
                  <a:cubicBezTo>
                    <a:pt x="4540" y="1790"/>
                    <a:pt x="4740" y="56"/>
                    <a:pt x="4840" y="93"/>
                  </a:cubicBezTo>
                  <a:cubicBezTo>
                    <a:pt x="4940" y="130"/>
                    <a:pt x="4947" y="1906"/>
                    <a:pt x="5020" y="2073"/>
                  </a:cubicBezTo>
                  <a:cubicBezTo>
                    <a:pt x="5093" y="2240"/>
                    <a:pt x="5200" y="1393"/>
                    <a:pt x="5280" y="1093"/>
                  </a:cubicBezTo>
                  <a:cubicBezTo>
                    <a:pt x="5360" y="793"/>
                    <a:pt x="5418" y="167"/>
                    <a:pt x="5500" y="273"/>
                  </a:cubicBezTo>
                  <a:cubicBezTo>
                    <a:pt x="5582" y="379"/>
                    <a:pt x="5684" y="1664"/>
                    <a:pt x="5771" y="1727"/>
                  </a:cubicBezTo>
                  <a:cubicBezTo>
                    <a:pt x="5858" y="1790"/>
                    <a:pt x="5925" y="735"/>
                    <a:pt x="6020" y="653"/>
                  </a:cubicBezTo>
                  <a:cubicBezTo>
                    <a:pt x="6115" y="571"/>
                    <a:pt x="6232" y="1174"/>
                    <a:pt x="6340" y="1233"/>
                  </a:cubicBezTo>
                  <a:cubicBezTo>
                    <a:pt x="6448" y="1292"/>
                    <a:pt x="6584" y="1034"/>
                    <a:pt x="6671" y="1007"/>
                  </a:cubicBezTo>
                  <a:cubicBezTo>
                    <a:pt x="6758" y="980"/>
                    <a:pt x="6800" y="1013"/>
                    <a:pt x="6860" y="1073"/>
                  </a:cubicBezTo>
                  <a:cubicBezTo>
                    <a:pt x="6920" y="1133"/>
                    <a:pt x="6968" y="1427"/>
                    <a:pt x="7031" y="1367"/>
                  </a:cubicBezTo>
                  <a:cubicBezTo>
                    <a:pt x="7094" y="1307"/>
                    <a:pt x="7139" y="652"/>
                    <a:pt x="7240" y="713"/>
                  </a:cubicBezTo>
                  <a:cubicBezTo>
                    <a:pt x="7341" y="774"/>
                    <a:pt x="7527" y="1670"/>
                    <a:pt x="7640" y="1733"/>
                  </a:cubicBezTo>
                  <a:cubicBezTo>
                    <a:pt x="7753" y="1796"/>
                    <a:pt x="7853" y="1283"/>
                    <a:pt x="7920" y="1093"/>
                  </a:cubicBezTo>
                  <a:cubicBezTo>
                    <a:pt x="7987" y="903"/>
                    <a:pt x="8015" y="697"/>
                    <a:pt x="8040" y="59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Now lets have a go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1:42:07Z</dcterms:created>
  <dc:creator>Ministry of Education</dc:creator>
  <dc:description/>
  <dc:language>en-US</dc:language>
  <cp:lastModifiedBy>Ministry of Education</cp:lastModifiedBy>
  <dcterms:modified xsi:type="dcterms:W3CDTF">2010-02-23T00:29:01Z</dcterms:modified>
  <cp:revision>2</cp:revision>
  <dc:subject/>
  <dc:title>Beats</dc:title>
</cp:coreProperties>
</file>